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C91-F3A0-45CA-BE63-F338DD9A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9E7-010C-47D0-8AFF-3343F5D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954FB-4CCF-4E1C-AE40-B5D8DE4D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98645-5D5E-474F-8858-8C11C976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9E62-0E4F-4D70-AF51-6D79A950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1FB85-9158-49F5-B9A2-BF43FB5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BB803-85B1-44CA-A622-48304264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E0FD3-5442-4950-ABAF-6558572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A26D4-7941-41F4-AD1A-B387DD6D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2AC08-CE21-46BF-BA1A-FF079F27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4DD49-7BC2-4395-B6BE-C20BC192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15BFB-38B8-4C23-A05A-311832D6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9EE-4CA5-4310-A8F2-5458AB16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31A0C-32EA-407D-8B77-FE6E006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B3CA1-C557-467E-88C2-07ABF574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18B9B-D21F-4AC9-A4C5-2532A0E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38F9B-01AE-4F6B-9D16-95398710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8F3F0-978B-4C87-85F4-F727F80F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2004F-0787-4F82-BE88-7E324F1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D1D37-7102-400F-83AB-E405611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78244-A4F8-4F33-AADD-4D6E64C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19CE7-E17A-460B-B633-A662F49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82D01-943C-4C74-958E-103A5EDB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76C-6F33-4F9A-9D2A-ED42A76E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1262D-5497-411F-8EBA-34341FD9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90DC9-CB7C-4B49-A752-3717EE1F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F64B8-BE15-4C57-8A45-F3919D25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AC45C-2258-4384-B5E4-507F06CA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62343-9197-4B1D-B305-7260705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8B58-D8EB-4C3C-B2D7-A3B84EDD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9DC28-42AE-45FE-A977-2752A0D2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C4E66-F1AC-4365-A41A-0E43D07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FAFA8-AF35-4EF7-946B-87CEB793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FE323-3B09-4F95-8A2B-6F1B4AE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1890-7503-429D-922A-B6D36BC4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E6167-4FFC-45D1-89F5-2DBEBF5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5AB3E-3B41-448B-B897-3BF84B7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DF23A-4D94-4DA8-9CB5-8ECFDCCD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16CCE-E3FE-4C1E-B30E-6834D0B6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82F76-F86B-46CE-A090-1F214F5A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946B1-A667-46D7-8473-16355D7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CA135-2293-4D8F-8579-337CBE64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FB331-3AD0-410E-8419-B5223D6C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458AA-29E1-450C-A04B-EF30ED42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53985-59F7-4FD7-BE9F-34155EB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4D9C-1AED-4355-8C1E-A4742684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96465-6023-467C-A117-E17FDF0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8A77B-3296-4510-984F-55713BE3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E1AC0-D104-4907-85A9-12DBC66C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875EC-548A-44E6-ABD3-51E92B29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9674A-0F74-4A06-A3F9-6DD05ED6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1E5AF-5EE8-4211-AD9E-B6F36A6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E7BE6-7AA9-4474-9E4B-86B3B4CA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A89B6-F300-47A8-A70A-50EB719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B3829-A460-4893-8657-A5895FC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9E6F5-93B2-44AA-86C8-52DFF5D0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AEEE-27A7-4369-80D8-5B950455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0909E-D4FD-42E9-92B1-15BB1063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B6AFB-CAA4-492E-84DA-B938C371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361BF-8BAC-4FB2-A6A1-C5AB6F3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BB734-6D4C-4D8B-8E68-F565820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2183D-D931-4EDB-999F-756BF57A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6791F-FB08-489A-AF75-2FDCD9A8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28B7D-4C26-4A45-BEEC-1A4A7702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AF3E5-7CD9-48DF-9F20-0CD8D9EE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47C41-1203-4BA2-964E-B0ADDD95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C30E4-4C34-4CAB-A534-EA24B015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A6CD-AB85-4CBB-B851-2663926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18FE9-6417-42C0-9DE5-F6B1129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5B508-1A8D-4A8D-BD62-59A9544F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84064-629A-46D4-848E-A5EF1B2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029B3-1882-4B87-90CC-F245E9EF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F79BA-8C38-4FD6-8CBD-94AA955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147F4-3AB1-4E2C-B5A9-76FBE888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B83B2-CF1E-4FB5-AD67-7E019BB6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35B03-95EF-4F6E-836D-6F715172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8EC5F-A1A3-4640-98EB-6DC9F1A3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7DA2E-4A36-4C2E-B627-D18A2DC5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533C-3054-4413-B049-77B0919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C95BA-CF83-42D5-A9F4-851B13FE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11A85-98BA-42DF-90C5-BBEE998C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D9BF9-20AC-4A86-A721-466BC88F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B4231-460B-4960-AEEE-849501F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2A1C5-EBC7-4319-8844-99F309F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54628-4500-4D1D-AACB-C7469098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00D38-EEA8-4349-9C60-A8B5416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1824B-EC28-47AB-A338-499AD95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A73A0-4513-41B6-9CB2-1D7F82DE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56428-0BAF-4190-BD81-0545694B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A37A-C90E-4B53-BB27-D1DB40D8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5E941-C448-4F83-9D2D-97F961D3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3FE6F-2DF1-45CF-9025-76828F17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4A25E-51F3-4218-AC90-310C1070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3F015-B8B8-4866-A2C1-305083EB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A6035-EE32-4331-B1D3-B503C34A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40DB2-EADC-4503-B93D-1503B8E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7C44AF-4FA8-4A23-A517-560C1D67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E2211-D822-4A66-9083-0EEA3EAD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C9D50-5B9A-44F3-AEE9-F72EEB8C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1F6C9-B8A5-481F-A733-A92B50E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A50B-D395-46F8-9EDB-FD32396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C354B-C7A2-4D5A-A012-371524A3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EB488-0851-45B4-8018-2B7A7DC3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DF2E5-E057-4A2A-AFA6-B96E88F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4FCAA-0803-457D-AAE4-CE08DCC4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6A256-FC30-42ED-AFCC-A13FF04F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9F95A-BEDC-48F1-A7F7-FAE986A9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8AE3D-EB84-4F30-A363-1CB8E5F8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0A4B8-17D8-4568-9A7A-2A4547FE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52946-62E2-4BF9-9ACF-2A3079B6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33302-3DDF-4412-AB06-0197DDDD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D1B-288A-432A-8B05-8BD07027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1E05-7219-4F23-9248-8F9A9775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CFC6E-0DAF-41CF-A1DF-60188A2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BC29AC-410D-48E2-9521-A45F2D1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1B9FF-61CB-47C0-81A0-2A23E9D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FA860-CF01-4AC7-BE4B-395EA4EC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1E1AF-9A63-4A8C-A7BC-9EAAA8B2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3DCA6-1B6D-4000-9361-46F7C4BB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19537-27FF-472A-9514-AA1C594D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A4F10-1DC3-4CFE-8315-503693B2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48DA5-DB0D-483F-BF1E-0B28162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17DB6-960B-4F7F-BA75-951F1FCA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FDDF-7631-4B53-BA89-02BAA17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787AF-3233-4A07-A8E6-B3DF98D7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A99C7-6439-4F16-90CB-E8A614C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2D131-39B8-4A69-92D2-7C65348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9EB41-30AA-4F81-8DA4-782C6A3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FB435D-DEAA-4E02-B874-8CC589F1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A8EF4-A625-4A4D-994B-F0649654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29503-C40C-4B9C-8FD5-D489887F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A5CB47-43E2-4178-85F2-BA35E830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7A026-AA83-4325-8C75-F6EF696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93D23-C0BF-460F-96A4-AAECB4ED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16D-8E3F-4A95-AB42-C2EFFD87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ACE04-15F9-444D-B911-3D8C6797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8CE34-FC33-41F5-B853-5BB64E9F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04888-265B-4574-81E4-F17B27B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B2A4D-41B4-45A5-AF14-64AF5D5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5DF29-C941-4770-9B14-276BA416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FA24C-CDFD-4BA9-8CB5-7305C34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B51CA-4E90-4A92-8CE7-B2340809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45597-BB5E-4271-9EAA-3EA84AAD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8BFED-93B0-48BE-B1F2-29BB56CF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62342-7D04-4BAE-B580-9C5844C7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A037-4264-4AD4-A381-D3F66D33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6EE7D-BDEB-4B22-8A4B-FCF5208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E65C8-CE2B-4EC8-BE97-83D54BA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795DA-8DA9-4218-B796-6424207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DD44D-7124-478D-9DE9-84E024F5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17702-DEC5-4D4E-9768-CFF20BFE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41DAF-E25C-4E60-9846-609B2E4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B16B6-8D8F-40F8-9E94-788C919E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9B59E-FC6D-4B3A-A659-2C38A81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60C6F-09D9-4D6A-B6F4-14D7FBB4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00C17-87C4-4C38-9CB9-5587CCE7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1130-503F-48CA-A4AB-9ECC642D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EE1AF-B1D8-4253-B33B-0369E87D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E2449-F437-4416-B5EB-16B5E6C3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1EF4D-8F55-4ACA-8F2F-3D32F837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41570-373F-486F-8F2C-EBCC80E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C6A05-9086-4307-9D0A-3E49A769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B2B9EE-F5B4-49E3-B676-2D09829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BF463-9D22-4FFF-8F7F-5DC1F9E2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3746E-9E96-4797-9179-98F5A14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3318B-CA35-4A63-BB8A-FA09EC3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C5F60-8E0D-48BD-96E1-72B127A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B45C-6A05-4714-9A17-239063F9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4ADA16-D18C-4B4D-BE0E-B14E054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18533-2E91-4EA2-8F34-3440A7E1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D1029-263C-407C-BD0F-DA672BC0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D9752-FEED-4AA1-BEEA-28E3D2A0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EACC59-8953-4E44-831B-806CBF7F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06AAC4-C59D-4F5E-962C-743206B2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A815C6-8C78-4EAD-9090-1638E70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09A38-4458-47C9-B96A-A0FDCDC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F3D119-70D2-4EF5-B807-F8363C3A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26D0A2-B10A-4B18-BAB3-4A9085A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AFFD-38B8-4EDF-9604-01739CF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12532-2197-432E-9DD0-A5E3521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4CE7C4-E153-4358-B238-074DEA3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E302CD-AF02-451A-A4BD-724EC4B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C0712D-4490-4562-B612-D020E1A2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9B4322-47AA-4452-8DBC-8B5F6D81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90D700-5D06-4D01-812D-4594B10D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76B488-604C-49DB-A9E6-19162D9E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6401F6-F7D5-4523-BF56-1C72149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C2CB2-E64E-4A2C-A1FC-B1181B9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D90F5E-E762-451B-A00E-810CD247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C311-3251-4A16-AD65-9B9D7EF0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ABE5E-A1F3-4A6D-9D1B-6A7C73B6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34E4EE-07ED-44D8-8D8E-9D70F76A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8E8159-ACD0-4E9C-8C0D-B0A083D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5ED3A-A372-4177-A566-4BE38DD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26EA9C-5CB5-439F-B98D-A011322D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9DA71F-E4E5-48B5-BC78-35F31E53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970CD4-3DC9-4DF2-BC3C-B7B5A1D4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663B-9E75-457F-A7A8-4FFAE3C3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AF01-29D5-4A76-9AFD-0E57B7BE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14E-4AF3-4E69-B29A-B40D6FB2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098D-C455-45FF-8A97-B5D2DB6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24A4-933E-4B17-AF40-82537EE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0020-449A-4AD9-BAE5-51330D2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8837-1ECE-42E5-9054-EF6CF7E5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B7EA-70BA-41B6-8345-FFF44C1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3A34-CA04-4D7F-B874-0E4CCD62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FEA0-972B-49E8-8BC4-225A664F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5D01-EC9A-44FD-915C-890DE314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9E5A-CC20-48CC-B46B-ACD0915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2E19-82A5-4664-A333-76C66614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F8A-D078-4420-B853-0E26ABF1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4120-D878-4E6B-BC77-406A3880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4AFB-172A-4D01-B984-E8D28C6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84FD-DAF9-4456-AE7F-3284CE18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016E-DB53-4275-B83B-29276D7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CAC6-1193-403C-9EDC-0692062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0647-B7F7-4B71-9D82-74768AF0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27ED-FDAC-4658-8D1C-71B46F15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D9E8-5EC8-4370-AC13-6E2AE47F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2F14-817D-4D33-9FCC-36F49850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031F5-9DD1-40EE-B50E-EEE95C23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444-4016-4561-858B-1F0130CF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B303-6EE5-4038-A9E8-7B8761C0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DA9C6-07CD-446E-BF05-062D906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53DB-7BDD-45FE-AFFB-D624C6D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DD2D-F738-467E-BD89-E0BFB2CB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9ED6-89A4-4820-B7D9-F3F156FD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A754-9FDA-4CF7-B707-690F7C0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A8E8A-B6B3-44ED-A1F2-1C32A2C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D9ABB-ABCE-4C20-97AA-F393816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D39C-6928-4A9D-BD3B-A092D6BA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62DC8-FA56-4D88-AB9E-1E621C67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89E-B5AA-4015-A316-978FA2E5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08EAF-BD63-4F2A-A57A-9B9612A9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77C71-73D6-4272-B6FD-8F5749BC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938A-FA6C-4CE0-A625-B81F7638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084D4-3540-4365-BB1A-852DA3C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D045A-3D7A-4E7C-9508-FA66D5B6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14CC-B984-4028-BAEF-7DF21C18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876B4-BCF2-4D7D-974A-864361E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0FC1-FF2E-4F39-BD01-A6BF04D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892E-5834-4AF4-B9D4-7F74624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8E74-4203-475D-992A-75DF363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3F8-8517-4F17-96F6-9CBF830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3524-4524-48A8-9183-38BED2F0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7667-F254-49B2-9FAF-D0E1315C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9208-1A7F-4B1F-9663-C3ECBFB1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31887-4055-4EEF-BE66-61088CA1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C8A0F-5EF6-4E62-A5D9-DD78089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0550-F32D-41C6-8D90-53E7E30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40D6-02A7-4EA5-9E8A-68B66199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9A40-B647-44E7-8915-34F734E1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A9DF5-8D2C-42C0-9350-910BFE6E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A1C1A-524D-4245-9FAA-A691073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E38-27E7-42D8-8152-4C207AF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6C117-6253-4806-9434-6C831CE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5291C-9B59-469B-A55C-0C441FF7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03112-E468-4E25-90D1-0D4A3518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AB6D-5BD7-48D9-9391-D8A5E778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03F8B-2BED-442A-B832-C9CA9117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D238C-67D5-4F70-965D-256F40E3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6A5D-D880-459B-8449-85A46C2A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4B015-C1FA-4536-A763-EC62C31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B1B44-7181-42CF-9B10-EB2786CE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1A6C7-4DAF-4D25-AADE-EBDE40F7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EF1-428B-41CE-A004-4442853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E196-09A2-4EF5-AA6B-369DE1BD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F86A-42B7-4082-A616-1C6E683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5CA2-1D98-4342-99A1-9A7B04B6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02003-1090-4A6E-B9F0-D7F6E1D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39EB7-D68C-45DD-84AB-9BC83B63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2DEA-CC4A-419E-9400-8D011355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AE3B-EEF4-4A8E-A014-816C189F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F3852-3399-48E4-B35E-28E55A45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9534F-E92D-4F43-922A-CA0F9234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03975-F827-4282-8863-964E0A2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7F90-811A-4EFA-A065-1058EB8820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4E61-08A3-4F39-BFDF-5DF36CE3C4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E176-0C99-4CC9-B6ED-C2FFE566D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C:/Users/Administrator/1V994W2/Documents/Tencent%20Files/574576071/FileRecv/拼装素材/小清新-34/06/subject_holdright_226,69,78_0_lively_full_0.png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CC01-4153-4B4D-B8A2-8B778C383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6AC7-5C9B-4F9C-ACF2-A5E47A263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FDF-9B1A-4C58-BBAC-6492395A1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E034-B7CE-4F00-A387-5232000059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D628-06A6-4470-8C11-C14679548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34B-3A48-4F04-B3AF-B0A884861E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607C-FDA9-4E8B-86F2-56E0F363CC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20E-2D37-4545-8E5F-835BC38F0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9476-D669-48F8-BD04-3627EBC5E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A38-B93D-45D3-A094-D090D4EC2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C:/Users/Administrator/1V994W2/Documents/Tencent%20Files/574576071/FileRecv/拼装素材/小清新-34/06/subject_holdright_226,69,78_0_lively_full_0.png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C:/Users/Administrator/1V994W2/PycharmProjects/PPT_Background_Generation/pic_temp/0_pic_quater_left_up.png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205D-5C29-48DB-B0DA-AF39B174A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EDA0-3646-4DAF-A707-C8B526F3A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C5F7-A085-4121-9E7D-A14995DE5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5A3B-44CF-4436-875E-3CE53EDDE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EAE5-A257-463B-AE5A-019746AFA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A83F-E36C-4D73-9664-8F2A50A51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66D-B726-4997-850B-0361227DB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25B-6475-45DA-98E6-A3AED075B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0734-97BA-4B4F-933B-E1D3BA6C97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5E8A-5503-4A71-A937-42259CA70B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C5F7-D15C-4FD7-902E-8CDF5B473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03A4-DEE3-429B-A3A8-F28EE7C0C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BFB5-F549-4828-8113-53B3D9124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647-C5C2-413C-AB8C-6E3460F24F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DF6-9CA4-43FC-9EFB-7AD43CDDD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77FD-211B-4ED8-8668-BAFF9BC87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17BF-B731-4DE8-A239-18162AA90F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47F6-D349-4B8D-A2F7-5D76D0B8F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E1BA-87DC-4C90-BD9F-D8581821D6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5C48-AFD9-42C6-9B3D-FB91040C49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E2F4-DBD3-4700-9D74-C6AD9236E2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C:/Users/Administrator/1V994W2/Documents/Tencent%20Files/574576071/FileRecv/拼装素材/小清新-34/06/subject_holdright_226,69,78_0_lively_full_0.png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8839-069F-4AB8-BBA4-27A5DEA82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3181-3618-49C3-A055-4EBB235F5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1ED8-5D35-452B-9E86-4F431EA20A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72F8-4ACE-43FB-A749-04D26AFB0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C:/Users/Administrator/1V994W2/PycharmProjects/PPT_Background_Generation/pic_temp/pic_half_left.png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C:/Users/Administrator/1V994W2/PycharmProjects/PPT_Background_Generation/pic_temp/pic_half_right.png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E417-26B4-4185-9726-21B1C5C6D6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8AB8-F72B-4D06-8BFC-96C4D6D5D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C:/Users/Administrator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C:/Users/Administrator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5C9F-C70F-4C54-95E0-8904A9311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607B-309B-4801-A027-4735F3B90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01480" y="1819440"/>
            <a:ext cx="81410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单元测试卷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501480" y="1896840"/>
            <a:ext cx="814104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07" name="图片 1" descr="图片1"/>
          <p:cNvPicPr/>
          <p:nvPr/>
        </p:nvPicPr>
        <p:blipFill>
          <a:blip r:embed="rId1"/>
          <a:stretch/>
        </p:blipFill>
        <p:spPr>
          <a:xfrm>
            <a:off x="162000" y="1616040"/>
            <a:ext cx="88376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376200" y="1295280"/>
            <a:ext cx="8391600" cy="42674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826920" y="3056040"/>
            <a:ext cx="7274160" cy="3189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7273800" cy="3193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7273800" cy="3193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5"/>
          <a:stretch/>
        </p:blipFill>
        <p:spPr>
          <a:xfrm>
            <a:off x="755640" y="4305240"/>
            <a:ext cx="7273800" cy="3193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6"/>
          <a:stretch/>
        </p:blipFill>
        <p:spPr>
          <a:xfrm>
            <a:off x="755640" y="4737240"/>
            <a:ext cx="7273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66600" y="1590840"/>
            <a:ext cx="9010800" cy="36763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5832360" cy="3189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5832360" cy="3189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395280" y="2997360"/>
            <a:ext cx="5832360" cy="3189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5832360" cy="3189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468360" y="3860640"/>
            <a:ext cx="5832360" cy="3193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7"/>
          <a:stretch/>
        </p:blipFill>
        <p:spPr>
          <a:xfrm>
            <a:off x="539640" y="4292640"/>
            <a:ext cx="5832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图片 1" descr=""/>
          <p:cNvPicPr/>
          <p:nvPr/>
        </p:nvPicPr>
        <p:blipFill>
          <a:blip r:embed="rId1"/>
          <a:stretch/>
        </p:blipFill>
        <p:spPr>
          <a:xfrm>
            <a:off x="171360" y="900000"/>
            <a:ext cx="8801280" cy="56865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7489800" cy="3189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7489800" cy="3193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395280" y="2814480"/>
            <a:ext cx="7489800" cy="3193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5"/>
          <a:stretch/>
        </p:blipFill>
        <p:spPr>
          <a:xfrm>
            <a:off x="324000" y="4437000"/>
            <a:ext cx="5400360" cy="3193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6"/>
          <a:stretch/>
        </p:blipFill>
        <p:spPr>
          <a:xfrm>
            <a:off x="324000" y="4870440"/>
            <a:ext cx="5400360" cy="3189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7"/>
          <a:stretch/>
        </p:blipFill>
        <p:spPr>
          <a:xfrm>
            <a:off x="324000" y="5335560"/>
            <a:ext cx="5400360" cy="3189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8"/>
          <a:stretch/>
        </p:blipFill>
        <p:spPr>
          <a:xfrm>
            <a:off x="250920" y="5792760"/>
            <a:ext cx="7489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图片 1" descr=""/>
          <p:cNvPicPr/>
          <p:nvPr/>
        </p:nvPicPr>
        <p:blipFill>
          <a:blip r:embed="rId1"/>
          <a:stretch/>
        </p:blipFill>
        <p:spPr>
          <a:xfrm>
            <a:off x="114480" y="1595520"/>
            <a:ext cx="8915400" cy="36669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2"/>
          <a:stretch/>
        </p:blipFill>
        <p:spPr>
          <a:xfrm>
            <a:off x="684360" y="2894040"/>
            <a:ext cx="7343640" cy="3189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7343640" cy="3189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7344000" cy="3189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5"/>
          <a:stretch/>
        </p:blipFill>
        <p:spPr>
          <a:xfrm>
            <a:off x="468360" y="4162320"/>
            <a:ext cx="7343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5120" y="1924200"/>
            <a:ext cx="8753760" cy="30096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7488360" cy="31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7488360" cy="3193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4"/>
          <a:stretch/>
        </p:blipFill>
        <p:spPr>
          <a:xfrm>
            <a:off x="395280" y="3611520"/>
            <a:ext cx="7488360" cy="318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5"/>
          <a:stretch/>
        </p:blipFill>
        <p:spPr>
          <a:xfrm>
            <a:off x="468360" y="4076640"/>
            <a:ext cx="7488360" cy="3193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6"/>
          <a:stretch/>
        </p:blipFill>
        <p:spPr>
          <a:xfrm>
            <a:off x="468360" y="4508640"/>
            <a:ext cx="7488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2" descr=""/>
          <p:cNvPicPr/>
          <p:nvPr/>
        </p:nvPicPr>
        <p:blipFill>
          <a:blip r:embed="rId1"/>
          <a:stretch/>
        </p:blipFill>
        <p:spPr>
          <a:xfrm>
            <a:off x="111240" y="1568520"/>
            <a:ext cx="8921520" cy="36018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6156360" y="19162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2843280" y="2276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6329520" y="232092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1042920" y="265104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2124000" y="335772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9"/>
          <a:stretch/>
        </p:blipFill>
        <p:spPr>
          <a:xfrm>
            <a:off x="4932360" y="342900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0"/>
          <a:stretch/>
        </p:blipFill>
        <p:spPr>
          <a:xfrm>
            <a:off x="7956720" y="335772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1"/>
          <a:stretch/>
        </p:blipFill>
        <p:spPr>
          <a:xfrm>
            <a:off x="2022480" y="4365720"/>
            <a:ext cx="217440" cy="215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2"/>
          <a:stretch/>
        </p:blipFill>
        <p:spPr>
          <a:xfrm>
            <a:off x="5641920" y="4365720"/>
            <a:ext cx="217440" cy="2156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3"/>
          <a:stretch/>
        </p:blipFill>
        <p:spPr>
          <a:xfrm>
            <a:off x="1673280" y="485460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4"/>
          <a:stretch/>
        </p:blipFill>
        <p:spPr>
          <a:xfrm>
            <a:off x="5527800" y="4859280"/>
            <a:ext cx="2174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104760" y="1943280"/>
            <a:ext cx="8934480" cy="29718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5148360" y="191628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8101080" y="191628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6732720" y="263700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55640" y="3068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8"/>
          <a:stretch/>
        </p:blipFill>
        <p:spPr>
          <a:xfrm>
            <a:off x="7020000" y="342900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9"/>
          <a:stretch/>
        </p:blipFill>
        <p:spPr>
          <a:xfrm>
            <a:off x="684360" y="378936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10"/>
          <a:stretch/>
        </p:blipFill>
        <p:spPr>
          <a:xfrm>
            <a:off x="7812000" y="414972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11"/>
          <a:stretch/>
        </p:blipFill>
        <p:spPr>
          <a:xfrm>
            <a:off x="4788000" y="4521240"/>
            <a:ext cx="79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0" y="2352600"/>
            <a:ext cx="9144000" cy="21528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8459640" y="2649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45964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845964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8459640" y="378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8459640" y="416232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17360" y="1577880"/>
            <a:ext cx="8039160" cy="174312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" descr=""/>
          <p:cNvPicPr/>
          <p:nvPr/>
        </p:nvPicPr>
        <p:blipFill>
          <a:blip r:embed="rId2"/>
          <a:stretch/>
        </p:blipFill>
        <p:spPr>
          <a:xfrm>
            <a:off x="322200" y="3405240"/>
            <a:ext cx="8753400" cy="2209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4500720" y="1916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234000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608472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442764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7"/>
          <a:stretch/>
        </p:blipFill>
        <p:spPr>
          <a:xfrm>
            <a:off x="8317080" y="494172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4400" y="1495440"/>
            <a:ext cx="9115200" cy="3867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3825720" y="2251080"/>
            <a:ext cx="746280" cy="318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6245280" y="2205000"/>
            <a:ext cx="745920" cy="3189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845964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1619280" y="2577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7"/>
          <a:stretch/>
        </p:blipFill>
        <p:spPr>
          <a:xfrm>
            <a:off x="3492360" y="26114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8"/>
          <a:stretch/>
        </p:blipFill>
        <p:spPr>
          <a:xfrm>
            <a:off x="6084720" y="2590920"/>
            <a:ext cx="74628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9"/>
          <a:stretch/>
        </p:blipFill>
        <p:spPr>
          <a:xfrm>
            <a:off x="8507520" y="2590920"/>
            <a:ext cx="610920" cy="318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0"/>
          <a:stretch/>
        </p:blipFill>
        <p:spPr>
          <a:xfrm>
            <a:off x="611280" y="371628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1"/>
          <a:stretch/>
        </p:blipFill>
        <p:spPr>
          <a:xfrm>
            <a:off x="1751040" y="3297240"/>
            <a:ext cx="94932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2"/>
          <a:stretch/>
        </p:blipFill>
        <p:spPr>
          <a:xfrm>
            <a:off x="4427640" y="3716280"/>
            <a:ext cx="3816360" cy="1728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3"/>
          <a:stretch/>
        </p:blipFill>
        <p:spPr>
          <a:xfrm>
            <a:off x="5805360" y="3297240"/>
            <a:ext cx="9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538200" y="2176560"/>
            <a:ext cx="8067600" cy="25048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1656000" cy="17269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4211640" y="2637000"/>
            <a:ext cx="4608360" cy="17269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5940360" y="2205000"/>
            <a:ext cx="936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36576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971640" y="2801880"/>
            <a:ext cx="3095640" cy="319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1042920" y="3174840"/>
            <a:ext cx="3095640" cy="3193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5580000" y="240048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5580000" y="278136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7"/>
          <a:stretch/>
        </p:blipFill>
        <p:spPr>
          <a:xfrm>
            <a:off x="5651640" y="315432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8"/>
          <a:stretch/>
        </p:blipFill>
        <p:spPr>
          <a:xfrm>
            <a:off x="971640" y="427212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9"/>
          <a:stretch/>
        </p:blipFill>
        <p:spPr>
          <a:xfrm>
            <a:off x="971640" y="465300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10"/>
          <a:stretch/>
        </p:blipFill>
        <p:spPr>
          <a:xfrm>
            <a:off x="5651640" y="422604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11"/>
          <a:stretch/>
        </p:blipFill>
        <p:spPr>
          <a:xfrm>
            <a:off x="5651640" y="4606920"/>
            <a:ext cx="3095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1" descr=""/>
          <p:cNvPicPr/>
          <p:nvPr/>
        </p:nvPicPr>
        <p:blipFill>
          <a:blip r:embed="rId1"/>
          <a:stretch/>
        </p:blipFill>
        <p:spPr>
          <a:xfrm>
            <a:off x="428760" y="1243080"/>
            <a:ext cx="8286480" cy="43718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7272360" cy="3193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1042920" y="437832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984240" y="4869000"/>
            <a:ext cx="7272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1T07:18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